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5FBD-3219-4A45-882C-071CFED22BA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DFC1-F36A-4505-8993-28A9048DF5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298A-2656-4043-85AE-0F70A123E5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60B8-F6C6-4576-B7CA-71B16399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C407-A17A-4AC5-B04B-5A951521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4FD6-7652-4466-B98C-C61692F7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DCC-972B-4AE6-A7EF-DDAE1A7E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8AF0-A0B3-407E-83A1-58307255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7BB3-3D87-4A62-B1F2-C1A36317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BF4-B444-44A4-B024-26AF37E7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E74C-9912-461E-9723-7330A9E9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2AF8-6D29-43B3-8580-DA3CC72A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6DF-599C-4233-93F6-6ECEDF21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C7A5-F4C2-4E7A-8AF2-3ECF1B01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783-2BF2-486F-93F7-4D632CFF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99ff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1932-D6A4-4DD6-94E0-B8238908F572}" type="slidenum">
              <a:rPr b="0" lang="en-GB" sz="1400" spc="-1" strike="noStrike">
                <a:solidFill>
                  <a:srgbClr val="9999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Joint Office of Gas Transporters"/>
          <p:cNvPicPr/>
          <p:nvPr/>
        </p:nvPicPr>
        <p:blipFill>
          <a:blip r:embed="rId2"/>
          <a:stretch/>
        </p:blipFill>
        <p:spPr>
          <a:xfrm>
            <a:off x="7086600" y="6134040"/>
            <a:ext cx="183996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Code Administration</a:t>
            </a:r>
            <a:br>
              <a:rPr sz="4400"/>
            </a:b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Code of Practice</a:t>
            </a: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948360" y="5013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ff"/>
                </a:solidFill>
                <a:latin typeface="Arial"/>
                <a:ea typeface="Times New Roman"/>
              </a:rPr>
              <a:t>Tim D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KPIs Q1 2011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Critical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Friend</a:t>
            </a: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Number and percentage of survey respondents who stated they were ‘satisfied’ or better with the assistance offered by the JO</a:t>
            </a:r>
            <a:endParaRPr b="0" lang="en-US" sz="2000" spc="-1" strike="noStrike">
              <a:solidFill>
                <a:srgbClr val="9999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99ff"/>
                </a:solidFill>
                <a:latin typeface="Arial"/>
              </a:rPr>
              <a:t>38 responses, 100% satisfied or better</a:t>
            </a:r>
            <a:endParaRPr b="0" lang="en-US" sz="1600" spc="-1" strike="noStrike">
              <a:solidFill>
                <a:srgbClr val="9999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99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99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99ff"/>
              </a:solidFill>
              <a:latin typeface="Arial"/>
            </a:endParaRPr>
          </a:p>
        </p:txBody>
      </p:sp>
      <p:pic>
        <p:nvPicPr>
          <p:cNvPr id="54" name="Chart 5" descr=""/>
          <p:cNvPicPr/>
          <p:nvPr/>
        </p:nvPicPr>
        <p:blipFill>
          <a:blip r:embed="rId1"/>
          <a:stretch/>
        </p:blipFill>
        <p:spPr>
          <a:xfrm>
            <a:off x="1616040" y="2560680"/>
            <a:ext cx="61992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Quality of assessment</a:t>
            </a: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55640" y="2968560"/>
          <a:ext cx="7772400" cy="1828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fg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n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57" name="TextBox 5"/>
          <p:cNvSpPr/>
          <p:nvPr/>
        </p:nvSpPr>
        <p:spPr>
          <a:xfrm>
            <a:off x="900000" y="5516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sed on Ofgem decisions in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1042920" y="170028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ports “sent back” by Of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Ofgem Decisions accord with Panel (91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Effective communication</a:t>
            </a: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Glossary and plain English summary to be provided with reports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Part of standard documentation</a:t>
            </a:r>
            <a:endParaRPr b="0" lang="en-US" sz="2800" spc="-1" strike="noStrike">
              <a:solidFill>
                <a:srgbClr val="99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Average number of respondents to consultation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9.1 (16 Consultations)</a:t>
            </a:r>
            <a:endParaRPr b="0" lang="en-US" sz="2800" spc="-1" strike="noStrike">
              <a:solidFill>
                <a:srgbClr val="99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Efficient administration (1)</a:t>
            </a: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4360" y="1483920"/>
            <a:ext cx="76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Percentage of papers published outside of modification rules requirements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0% Formal UNC Modification Papers (Mods, DMRs, FMRs)</a:t>
            </a:r>
            <a:endParaRPr b="0" lang="en-US" sz="2800" spc="-1" strike="noStrike">
              <a:solidFill>
                <a:srgbClr val="99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23% Meeting Papers</a:t>
            </a:r>
            <a:endParaRPr b="0" lang="en-US" sz="2800" spc="-1" strike="noStrike">
              <a:solidFill>
                <a:srgbClr val="99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69 Meetings</a:t>
            </a:r>
            <a:endParaRPr b="0" lang="en-US" sz="2400" spc="-1" strike="noStrike">
              <a:solidFill>
                <a:srgbClr val="99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366 Papers</a:t>
            </a:r>
            <a:endParaRPr b="0" lang="en-US" sz="2400" spc="-1" strike="noStrike">
              <a:solidFill>
                <a:srgbClr val="99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Efficient Administration (2)</a:t>
            </a: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Number and percentage of reports submitted to the authority in line with original timetable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One </a:t>
            </a:r>
            <a:endParaRPr b="0" lang="en-US" sz="2800" spc="-1" strike="noStrike">
              <a:solidFill>
                <a:srgbClr val="99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Number of extensions to timetable requested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Fourteen</a:t>
            </a:r>
            <a:endParaRPr b="0" lang="en-US" sz="2800" spc="-1" strike="noStrike">
              <a:solidFill>
                <a:srgbClr val="99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Efficient Administration (3)</a:t>
            </a: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1981080"/>
          <a:ext cx="7772400" cy="28400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verage time betwe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sal being raised and submitted for d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sal being submitted for decision and decision being pu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ision and implementation (separately identifying systems and non-system chang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(no central systems chang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Implementation costs</a:t>
            </a: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436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Number and percentage of reports for which implementation cost estimates were available for consultation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100%</a:t>
            </a:r>
            <a:endParaRPr b="0" lang="en-US" sz="2800" spc="-1" strike="noStrike">
              <a:solidFill>
                <a:srgbClr val="99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Accuracy percentage difference (whether higher or lower) between estimated and actual implementation costs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99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Code Administration</a:t>
            </a:r>
            <a:br>
              <a:rPr sz="4400"/>
            </a:b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Code of Practice</a:t>
            </a:r>
            <a:endParaRPr b="0" lang="en-US" sz="44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948360" y="5013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ff"/>
                </a:solidFill>
                <a:latin typeface="Arial"/>
                <a:ea typeface="Times New Roman"/>
              </a:rPr>
              <a:t>Tim D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KPIs Q1 2011</a:t>
            </a:r>
            <a:endParaRPr b="0" lang="en-US" sz="3200" spc="-1" strike="noStrike">
              <a:solidFill>
                <a:srgbClr val="99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4:07:22Z</dcterms:created>
  <dc:creator>Tim Davis</dc:creator>
  <dc:description/>
  <dc:language>en-US</dc:language>
  <cp:lastModifiedBy>Tim Davis</cp:lastModifiedBy>
  <dcterms:modified xsi:type="dcterms:W3CDTF">2011-04-13T19:01:05Z</dcterms:modified>
  <cp:revision>43</cp:revision>
  <dc:subject/>
  <dc:title>Modification Panel Processes</dc:title>
</cp:coreProperties>
</file>